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1F8-8C32-4FC6-9D7A-827285104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331B-9B25-4618-936B-3818B409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4582-751A-48BD-BAE9-510B1641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2A3D-81E6-432A-9E63-23F28D8A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4FED-559A-4E8D-B2F9-CF6ED4EF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5A93-469D-48EB-815A-AB91CCAE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DB64-66D9-45C1-AAC9-E77863DE12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EDC3-4D1B-470D-9F0E-EAEF91B7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11C3-B55B-4862-9D4D-569C3E81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784920"/>
            <a:ext cx="9144000" cy="73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4284720" cy="7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4284720" y="0"/>
            <a:ext cx="71280" cy="692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8220;&#38632;&#26524;&#22870;&#8221;&#32972;&#21518;&#30340;&#25925;&#20107;.doc" TargetMode="Externa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334160" y="45115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带上她的眼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39320" y="5672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刘慈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8286840" y="614376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3180600" y="13460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意下列同音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对象 2"/>
          <p:cNvGraphicFramePr/>
          <p:nvPr/>
        </p:nvGraphicFramePr>
        <p:xfrm>
          <a:off x="1871640" y="2349360"/>
          <a:ext cx="5249880" cy="28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349360"/>
                    <a:ext cx="524988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矩形 3"/>
          <p:cNvSpPr/>
          <p:nvPr/>
        </p:nvSpPr>
        <p:spPr>
          <a:xfrm>
            <a:off x="3278880" y="2449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3260520" y="31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f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654520" y="24368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726880" y="3141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3260880" y="38559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z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3108240" y="4605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z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5654520" y="3844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5883120" y="4605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1478520" y="287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1835280" y="270828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138760" y="258588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ū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138760" y="316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919600" y="2584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曲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919600" y="316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歌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431240" y="2800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4788000" y="2637000"/>
            <a:ext cx="215640" cy="93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5092920" y="251460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5092920" y="309096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272640" y="251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传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623268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510560" y="11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1551600" y="45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1908000" y="4292640"/>
            <a:ext cx="287640" cy="1297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2212200" y="41482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2211480" y="472428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g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537360" y="4146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蒙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537360" y="4722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启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2211480" y="522936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g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342432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蒙古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900000" y="765000"/>
            <a:ext cx="73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下列意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相关的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事先没有约定而意外到来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容易发愁、伤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形容人感情脆弱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现多比喻比方对彼此的心思都能心领神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保守，保住使不失去；过分爱惜己之财物，当用而不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形容气势雄伟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目前为止，到现在为止。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5433840" y="148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不期而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6369840" y="19638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多愁善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761120" y="3068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心有灵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26110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吝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3872520" y="4767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气势磅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5198040" y="5300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迄今为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612720" y="836640"/>
            <a:ext cx="82803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点缀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加以衬托或装饰，使原有事物更加美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漫步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没有目的而悠闲地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迟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（感官、思想、行动等）反应慢，不灵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蒙咙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快要睡着或刚醒时，两眼半开半闭，看东西模糊的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闲暇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闲空，没有事的时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凸现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清楚地显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蔚蓝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类似晴朗天空的颜色的一种蓝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合拢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合并；合聚到一块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吟唱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吟咏歌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9372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词语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7772400" y="632448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837000" y="1936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孤零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965320" y="1936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孤单孑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864720" y="258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不期而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114080" y="2585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事先没有约定而意外遇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864720" y="330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心有灵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340800" y="33321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比喻双方对彼此的心思都能心领神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116320" y="4025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形容极远的地方，或相隔极远。涯，边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862920" y="40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天涯海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159372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词语解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矩形 1" descr=""/>
          <p:cNvPicPr/>
          <p:nvPr/>
        </p:nvPicPr>
        <p:blipFill>
          <a:blip r:embed="rId1"/>
          <a:stretch/>
        </p:blipFill>
        <p:spPr>
          <a:xfrm>
            <a:off x="1450800" y="768240"/>
            <a:ext cx="3913200" cy="536760"/>
          </a:xfrm>
          <a:prstGeom prst="rect">
            <a:avLst/>
          </a:prstGeom>
          <a:ln w="0">
            <a:noFill/>
          </a:ln>
        </p:spPr>
      </p:pic>
      <p:sp>
        <p:nvSpPr>
          <p:cNvPr id="233" name="矩形 2"/>
          <p:cNvSpPr/>
          <p:nvPr/>
        </p:nvSpPr>
        <p:spPr>
          <a:xfrm>
            <a:off x="1042920" y="14130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体感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初读课文，采用快速浏览的方式，顺着自己的好奇心，去追寻小说的故事情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1042920" y="3166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完了小说，你被什么情节深深的吸引了呢？用简洁的语言概括故事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1042920" y="4581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【交流点拨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）教师提示学生掌握快速阅读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"/>
          <p:cNvSpPr/>
          <p:nvPr/>
        </p:nvSpPr>
        <p:spPr>
          <a:xfrm>
            <a:off x="719280" y="981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学生梳理故事情节，最后师生一起归纳总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900000" y="1844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故事情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类使用地航飞船深入地球内部进行探险，一艘地航飞船在航行中失事，下沉到地心，有两名地航员在事故中受伤，不久相继去世，只剩下一名女领航员被困无法返回地面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戴上她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传感眼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当于戴着她的眼睛去四处游玩，谁知那竟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带着她的眼睛完成了她最后一次地面探索，而她只能在封闭的地心度过余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826920" y="2637000"/>
            <a:ext cx="7560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章开头写“我”将带一位女航员的眼睛去度假，眼睛怎能被人单独带走？为什么要带走眼睛？带到什么地方去？那个地方怎么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者设置了这么多悬念，引发读者思考，激起了读者的阅读兴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55640" y="12682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文章开头有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1522080" y="11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释疑解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826920" y="2276640"/>
            <a:ext cx="7993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她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的眼睛实质上是一副传感眼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其原理、功用有：①当你戴上它时，你所看到的一切图像由超高频信息波发射出去，可以被远方的另一个载同样传感眼镜的人接收到。②它还能通过采集戴着它的人的脑电波，把触觉和味觉一同发射出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607480" y="155736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文中“她”的眼睛实质上是什么？它有什么原理和功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522080" y="11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释疑解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8"/>
          <p:cNvSpPr txBox="1"/>
          <p:nvPr/>
        </p:nvSpPr>
        <p:spPr>
          <a:xfrm>
            <a:off x="7772400" y="632448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684360" y="2637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关心他人，珍惜现在的工作、生活、幸福的“种子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4360" y="1268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文中“我”意识深处的“种子”指什么种子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522080" y="11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释疑解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7"/>
          <p:cNvSpPr/>
          <p:nvPr/>
        </p:nvSpPr>
        <p:spPr>
          <a:xfrm>
            <a:off x="436680" y="1897200"/>
            <a:ext cx="8286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科幻小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小说类别之一。用幻想的形式，表现人类在未来世界的物质精神文化生活和科学技术远景，其内容交织着科学事实和预见、想象。通常将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科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幻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和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视为其三要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125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新课导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826920" y="1557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如何理解</a:t>
            </a: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“‘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我怕封闭</a:t>
            </a:r>
            <a:r>
              <a:rPr b="0" lang="en-US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……’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一道闪电在我的脑海里出现</a:t>
            </a: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9999"/>
                </a:solidFill>
                <a:latin typeface="Times New Roman"/>
                <a:ea typeface="微软雅黑"/>
              </a:rPr>
              <a:t>这句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900000" y="2781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句话运用了比喻的修辞手法，把女孩的话比喻成一道闪电，生动地表现了“我”猛然醒悟的情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522080" y="11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释疑解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1666800" y="8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题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55640" y="126828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本文写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落日六号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地航飞船失事，小姑娘被困地心。为了让小姑娘最后看看这美丽的世界，所以主任安排我带上她的眼睛去度假的故事，表现了小姑娘热爱自然、热爱工作、坚强乐观的品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告诉我们：要乐观地面对一切困难，要珍惜身边的一切美好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684360" y="836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微软雅黑"/>
                <a:ea typeface="微软雅黑"/>
              </a:rPr>
              <a:t>本文前有伏笔，后有照应，请举例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24000" y="1482840"/>
            <a:ext cx="8497800" cy="30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．这个决定对她似乎很艰难，她的双手在太空服的手套里，握在胸前，双眼半闭着，似乎认为地球在我们这次短暂的旅行后就要爆炸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但这种如同生命线的联系不能长时间延续下去，飞船里中微子通信设备的能量最后耗尽，这种联系在两个月前就中断了，具体时间是在我从草原返回航天中心的途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．“我太怕封闭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她在地心的世界是那个活动范围不到</a:t>
            </a: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立方米的闷热的控制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377720" y="8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写作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8"/>
          <p:cNvSpPr txBox="1"/>
          <p:nvPr/>
        </p:nvSpPr>
        <p:spPr>
          <a:xfrm>
            <a:off x="7772400" y="632448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1"/>
          <p:cNvSpPr/>
          <p:nvPr/>
        </p:nvSpPr>
        <p:spPr>
          <a:xfrm>
            <a:off x="934920" y="2184480"/>
            <a:ext cx="48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上“眼睛”去旅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展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奇的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潮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姑娘献身于地航飞行事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局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铭记精神，砥砺前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94040" y="165492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上她的眼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左大括号 8"/>
          <p:cNvSpPr/>
          <p:nvPr/>
        </p:nvSpPr>
        <p:spPr>
          <a:xfrm>
            <a:off x="801720" y="2076480"/>
            <a:ext cx="173160" cy="2525760"/>
          </a:xfrm>
          <a:custGeom>
            <a:avLst/>
            <a:gdLst>
              <a:gd name="textAreaLeft" fmla="*/ 110520 w 173160"/>
              <a:gd name="textAreaRight" fmla="*/ 173520 w 173160"/>
              <a:gd name="textAreaTop" fmla="*/ 4320 h 2525760"/>
              <a:gd name="textAreaBottom" fmla="*/ 2521440 h 252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3"/>
                </a:cubicBezTo>
                <a:lnTo>
                  <a:pt x="10800" y="10677"/>
                </a:lnTo>
                <a:cubicBezTo>
                  <a:pt x="10800" y="10739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3"/>
                </a:cubicBezTo>
                <a:lnTo>
                  <a:pt x="10800" y="21477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右大括号 17"/>
          <p:cNvSpPr/>
          <p:nvPr/>
        </p:nvSpPr>
        <p:spPr>
          <a:xfrm>
            <a:off x="5533920" y="2076480"/>
            <a:ext cx="252360" cy="2525760"/>
          </a:xfrm>
          <a:custGeom>
            <a:avLst/>
            <a:gdLst>
              <a:gd name="textAreaLeft" fmla="*/ 0 w 252360"/>
              <a:gd name="textAreaRight" fmla="*/ 91080 w 252360"/>
              <a:gd name="textAreaTop" fmla="*/ 6480 h 2525760"/>
              <a:gd name="textAreaBottom" fmla="*/ 2519280 h 25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262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板书设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TextBox 32"/>
          <p:cNvSpPr/>
          <p:nvPr/>
        </p:nvSpPr>
        <p:spPr>
          <a:xfrm>
            <a:off x="5676840" y="2738520"/>
            <a:ext cx="16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奇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构思巧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右大括号 33"/>
          <p:cNvSpPr/>
          <p:nvPr/>
        </p:nvSpPr>
        <p:spPr>
          <a:xfrm flipH="1">
            <a:off x="7104240" y="2084400"/>
            <a:ext cx="210960" cy="2525760"/>
          </a:xfrm>
          <a:custGeom>
            <a:avLst/>
            <a:gdLst>
              <a:gd name="textAreaLeft" fmla="*/ 360 w 210960"/>
              <a:gd name="textAreaRight" fmla="*/ 76320 w 210960"/>
              <a:gd name="textAreaTop" fmla="*/ 5400 h 2525760"/>
              <a:gd name="textAreaBottom" fmla="*/ 2520360 h 25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34"/>
          <p:cNvSpPr/>
          <p:nvPr/>
        </p:nvSpPr>
        <p:spPr>
          <a:xfrm>
            <a:off x="7283520" y="2211480"/>
            <a:ext cx="163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欢探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私无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于奉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于献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6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6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450720" y="1344600"/>
            <a:ext cx="828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果奖，是“世界科幻协会” 所颁发的奖项，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起每年在世界科幻大会上颁发，正式名称为“科幻成就奖”，为纪念“科幻杂志之父”雨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斯巴克，命名为雨果奖。雨果奖和星云奖堪称科幻艺术界的诺贝尔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269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拓展延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矩形 1"/>
          <p:cNvSpPr/>
          <p:nvPr/>
        </p:nvSpPr>
        <p:spPr>
          <a:xfrm>
            <a:off x="3343320" y="5202360"/>
            <a:ext cx="23144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2"/>
              </a:rPr>
              <a:t>“雨果奖”背后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450720" y="1598760"/>
            <a:ext cx="828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云奖”经常被用来与“雨果奖”相提并论，二者合称为“双奖”。如果一部小说同时拿到了“双奖”，就标志着它已毋庸置疑地进入了科幻经典的殿堂。获得过“双奖”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作品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"/>
          <p:cNvSpPr/>
          <p:nvPr/>
        </p:nvSpPr>
        <p:spPr>
          <a:xfrm>
            <a:off x="512640" y="531720"/>
            <a:ext cx="793116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沙丘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黑暗的左手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环形世界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众神自己》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与拉玛相会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一无所有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千年战争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通向宇宙之门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梦蛇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天堂的喷泉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星潮汹涌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神经漫游者》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安德的游戏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4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死者代言人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5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末日之书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6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永远的和平》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7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美国众神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灵魂骑士》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犹太警察工会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275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课后作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 Box 5"/>
          <p:cNvSpPr/>
          <p:nvPr/>
        </p:nvSpPr>
        <p:spPr>
          <a:xfrm>
            <a:off x="449280" y="1417680"/>
            <a:ext cx="8352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目前来看，身陷绝境的小姑娘获救的希望是渺茫的。但科技的飞速发展给人们带来希望。经过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的研制，第一艘能够进入地心航行的地航飞船“落日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号”研制成功。你很荣幸，成为了“落日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号”地航飞船的地航员，进入地心，找到了“落日六号”并同它成功对接。接下来会发生什么呢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展开你的想象，续写故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7"/>
          <p:cNvSpPr/>
          <p:nvPr/>
        </p:nvSpPr>
        <p:spPr>
          <a:xfrm>
            <a:off x="428760" y="1092240"/>
            <a:ext cx="8286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幻小说是随着近代科学技术的蓬勃发展而产生的一种文学样式。科幻小说可能在哲学上是天真的，在道德上是简单的，在美学上是有些主观的，或粗糙的，但是就它最好的方面而言，它似乎触及了人类集体梦想的神经中枢，解放出我们人类深藏的某些幻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254320" y="595440"/>
            <a:ext cx="45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读过科幻小说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组合 3"/>
          <p:cNvGrpSpPr/>
          <p:nvPr/>
        </p:nvGrpSpPr>
        <p:grpSpPr>
          <a:xfrm>
            <a:off x="1150920" y="1544760"/>
            <a:ext cx="7786800" cy="4486320"/>
            <a:chOff x="1150920" y="1544760"/>
            <a:chExt cx="7786800" cy="4486320"/>
          </a:xfrm>
        </p:grpSpPr>
        <p:pic>
          <p:nvPicPr>
            <p:cNvPr id="130" name="Picture 2" descr="http://img1.gtimg.com/cul/pics/hv1/20/9/1494/97149665.jpg"/>
            <p:cNvPicPr/>
            <p:nvPr/>
          </p:nvPicPr>
          <p:blipFill>
            <a:blip r:embed="rId1"/>
            <a:stretch/>
          </p:blipFill>
          <p:spPr>
            <a:xfrm>
              <a:off x="1150920" y="1544760"/>
              <a:ext cx="416448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4"/>
            <p:cNvSpPr/>
            <p:nvPr/>
          </p:nvSpPr>
          <p:spPr>
            <a:xfrm>
              <a:off x="5315400" y="3439080"/>
              <a:ext cx="362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阿西莫夫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基地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5"/>
          <p:cNvGrpSpPr/>
          <p:nvPr/>
        </p:nvGrpSpPr>
        <p:grpSpPr>
          <a:xfrm>
            <a:off x="338040" y="588960"/>
            <a:ext cx="3621240" cy="5207760"/>
            <a:chOff x="338040" y="588960"/>
            <a:chExt cx="3621240" cy="5207760"/>
          </a:xfrm>
        </p:grpSpPr>
        <p:pic>
          <p:nvPicPr>
            <p:cNvPr id="133" name="Picture 2" descr="http://images.bookuu.com/book/C/01627/2612869-fm.jpg"/>
            <p:cNvPicPr/>
            <p:nvPr/>
          </p:nvPicPr>
          <p:blipFill>
            <a:blip r:embed="rId1"/>
            <a:stretch/>
          </p:blipFill>
          <p:spPr>
            <a:xfrm>
              <a:off x="1031760" y="588960"/>
              <a:ext cx="2363040" cy="45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2"/>
            <p:cNvSpPr/>
            <p:nvPr/>
          </p:nvSpPr>
          <p:spPr>
            <a:xfrm>
              <a:off x="338040" y="5276160"/>
              <a:ext cx="36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凡尔纳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海底两万里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组合 3"/>
          <p:cNvGrpSpPr/>
          <p:nvPr/>
        </p:nvGrpSpPr>
        <p:grpSpPr>
          <a:xfrm>
            <a:off x="3850920" y="1290960"/>
            <a:ext cx="4455360" cy="3872160"/>
            <a:chOff x="3850920" y="1290960"/>
            <a:chExt cx="4455360" cy="3872160"/>
          </a:xfrm>
        </p:grpSpPr>
        <p:pic>
          <p:nvPicPr>
            <p:cNvPr id="136" name="Picture 2" descr="http://i.guancha.cn/News/2012/9/14/634832336694736585untitled.jpg"/>
            <p:cNvPicPr/>
            <p:nvPr/>
          </p:nvPicPr>
          <p:blipFill>
            <a:blip r:embed="rId2"/>
            <a:stretch/>
          </p:blipFill>
          <p:spPr>
            <a:xfrm rot="21396600">
              <a:off x="3931200" y="1415160"/>
              <a:ext cx="4294080" cy="28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4"/>
            <p:cNvSpPr/>
            <p:nvPr/>
          </p:nvSpPr>
          <p:spPr>
            <a:xfrm rot="21396600">
              <a:off x="5036400" y="455364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刘慈欣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《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三体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2122560" y="704880"/>
            <a:ext cx="70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刘慈欣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生，山西阳泉人，高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师，科幻作家。主要作品包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部长篇小说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部作品集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篇中篇小说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篇短篇小说，以及部分评论文章。获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华语科幻星云奖最佳长篇小说奖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华语科幻星云奖最佳科幻作家奖等。代表作有长篇小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超新星纪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球状闪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部曲（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黑暗森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死神永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成）等，中短篇小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浪地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乡村教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朝闻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全频带阻塞干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，其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部曲被普遍认为是中国科幻文学的里裎碑之作，将中国科幻推上了世界的高度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，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三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获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届世界科幻大会颁发的雨果奖最佳长篇小说奖，为亚洲首次获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23480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2176560" cy="3024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9"/>
          <p:cNvSpPr txBox="1"/>
          <p:nvPr/>
        </p:nvSpPr>
        <p:spPr>
          <a:xfrm>
            <a:off x="7772400" y="632448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23480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95280" y="1413000"/>
            <a:ext cx="85694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知识与能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了解作者及科幻小说的特点；熟读课文，把握课文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过程与方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学习本文插叙的写法，并明确其作用；学习前有伏笔，后有照应的写法；学习本文的对比写法；学习本文运用动作、心理、语言描写刻画人物形象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情感态度与价值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体会作者丰富的想象力；体会文中的“她”热爱自然、坚定乐观、热爱自己工作的情感；激发对科学的热爱之情，培养想象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矩形 1" descr=""/>
          <p:cNvPicPr/>
          <p:nvPr/>
        </p:nvPicPr>
        <p:blipFill>
          <a:blip r:embed="rId1"/>
          <a:stretch/>
        </p:blipFill>
        <p:spPr>
          <a:xfrm>
            <a:off x="1195560" y="725400"/>
            <a:ext cx="3912840" cy="53676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2472840" y="16812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朗读课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圈画文中生字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对象 3"/>
          <p:cNvGraphicFramePr/>
          <p:nvPr/>
        </p:nvGraphicFramePr>
        <p:xfrm>
          <a:off x="611280" y="2565360"/>
          <a:ext cx="796932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565360"/>
                    <a:ext cx="79693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矩形 4"/>
          <p:cNvSpPr/>
          <p:nvPr/>
        </p:nvSpPr>
        <p:spPr>
          <a:xfrm>
            <a:off x="1550520" y="2565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zh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3379320" y="2565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m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369760" y="2565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ù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7286040" y="2565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ó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8"/>
          <p:cNvSpPr/>
          <p:nvPr/>
        </p:nvSpPr>
        <p:spPr>
          <a:xfrm>
            <a:off x="1622520" y="3213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x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3523680" y="32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t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5374440" y="3213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7337880" y="3213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wè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1612440" y="38307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3424320" y="38307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y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5246640" y="383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gō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7357680" y="38307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t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16"/>
          <p:cNvSpPr/>
          <p:nvPr/>
        </p:nvSpPr>
        <p:spPr>
          <a:xfrm>
            <a:off x="1611360" y="4449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ji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17"/>
          <p:cNvSpPr/>
          <p:nvPr/>
        </p:nvSpPr>
        <p:spPr>
          <a:xfrm>
            <a:off x="3356640" y="4449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m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 18"/>
          <p:cNvSpPr/>
          <p:nvPr/>
        </p:nvSpPr>
        <p:spPr>
          <a:xfrm>
            <a:off x="5284440" y="4449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n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7489080" y="44496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ìn 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20"/>
          <p:cNvSpPr/>
          <p:nvPr/>
        </p:nvSpPr>
        <p:spPr>
          <a:xfrm>
            <a:off x="2010960" y="5070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q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矩形 21"/>
          <p:cNvSpPr/>
          <p:nvPr/>
        </p:nvSpPr>
        <p:spPr>
          <a:xfrm>
            <a:off x="4598640" y="5070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22"/>
          <p:cNvSpPr/>
          <p:nvPr/>
        </p:nvSpPr>
        <p:spPr>
          <a:xfrm>
            <a:off x="7221240" y="5070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y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4"/>
          <p:cNvSpPr/>
          <p:nvPr/>
        </p:nvSpPr>
        <p:spPr>
          <a:xfrm>
            <a:off x="1439280" y="112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难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1665360" y="2062800"/>
            <a:ext cx="5607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迟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蒙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闲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凸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拍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 )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有灵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)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2199240" y="2276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h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4215240" y="2276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6447600" y="2205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ù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2271960" y="2924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ó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4359240" y="2924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6519240" y="29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2272320" y="35733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4288320" y="3500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è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6305040" y="3573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2198880" y="4221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4934880" y="4210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8"/>
          <p:cNvSpPr/>
          <p:nvPr/>
        </p:nvSpPr>
        <p:spPr>
          <a:xfrm>
            <a:off x="623088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09:12:57Z</dcterms:created>
  <dc:creator>XQ</dc:creator>
  <dc:description/>
  <dc:language>en-US</dc:language>
  <cp:lastModifiedBy>Administrator</cp:lastModifiedBy>
  <dcterms:modified xsi:type="dcterms:W3CDTF">2018-06-07T14:45:32Z</dcterms:modified>
  <cp:revision>14</cp:revision>
  <dc:subject/>
  <dc:title>幻灯片 1</dc:title>
</cp:coreProperties>
</file>